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303-5E1B-4CF6-B55B-9934B5B1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246-4769-4CB5-9E0C-D553791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CCB-4609-4008-8E82-3416FD83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30E-CDC6-4AF3-B6EC-7233054F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DB43-9EDF-42A0-81B0-C7167E41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907C-7BF6-4E0A-B2B8-662C63A1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64FE-2DFA-455E-9147-8602A98C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831E-A680-46B0-A820-E4315FB0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142-D6A3-486F-AAC8-310D148C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62DD-88F8-455F-93BC-20524784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92B5-014C-48B2-B724-9E9E1EB3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92E-97F3-482E-81F4-B4172313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0285-6EAE-4A93-BAD0-1907438A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D401-8740-455F-8068-77F5B203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A642-9B8F-42A2-B528-6E3A3573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7423-3CBA-4105-9BD4-ED168F7F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D0C8-F198-415B-9700-161A5972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785-6209-447A-B6B6-A7D666E6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9F4-0113-4AD5-8BFA-EE21DB7C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BC5-B2CF-4FB5-8912-73E5CB72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B8E-1997-42E0-92D1-490B7D99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734-EE18-42F9-B5EF-B71B5C7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39E-547D-4010-8FF4-00DA55C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5B4-3277-4419-843D-925511F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4BDE-B3E9-4398-94AA-43A57CC70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AEB2-EAFF-48E8-B1B7-958E19071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nimals of Indi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: Ashley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g De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7" descr="hog deer 2"/>
          <p:cNvPicPr/>
          <p:nvPr/>
        </p:nvPicPr>
        <p:blipFill>
          <a:blip r:embed="rId1"/>
          <a:stretch/>
        </p:blipFill>
        <p:spPr>
          <a:xfrm>
            <a:off x="1295280" y="1600200"/>
            <a:ext cx="2514600" cy="1824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g deer live 20-30 yea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of the smallest deer in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g deer is named for the way it ru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g deer eats mainly gr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9" descr="Hog Deer"/>
          <p:cNvPicPr/>
          <p:nvPr/>
        </p:nvPicPr>
        <p:blipFill>
          <a:blip r:embed="rId2"/>
          <a:stretch/>
        </p:blipFill>
        <p:spPr>
          <a:xfrm>
            <a:off x="53352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urt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body temperature changes with their surroun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 bloo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dy of a turtle is covered with special bony or cartilaginous shell, which is developed from its ri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2" descr="indian turtle"/>
          <p:cNvPicPr/>
          <p:nvPr/>
        </p:nvPicPr>
        <p:blipFill>
          <a:blip r:embed="rId1"/>
          <a:stretch/>
        </p:blipFill>
        <p:spPr>
          <a:xfrm>
            <a:off x="4419720" y="3803760"/>
            <a:ext cx="3386160" cy="261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ndian turtles"/>
          <p:cNvPicPr/>
          <p:nvPr/>
        </p:nvPicPr>
        <p:blipFill>
          <a:blip r:embed="rId2"/>
          <a:stretch/>
        </p:blipFill>
        <p:spPr>
          <a:xfrm>
            <a:off x="6324480" y="1143000"/>
            <a:ext cx="2052720" cy="287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8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urc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animals.nationalgeographic.com/animals/mammals/indian-rhinocero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wildlife-tour-india.com/animals-in-india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iloveindia.com/wildlife/indian-reptiles/mugger-crocodiles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iloveindia.com/wildlife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dian Peafow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peafowl are a species of birds in a group called pheasants. The males are called peacocks, and the females are called peahens. Together, they are peafowl. The Indian Peafowl is one of the largest birds that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9" descr="indian Peafowl 1"/>
          <p:cNvPicPr/>
          <p:nvPr/>
        </p:nvPicPr>
        <p:blipFill>
          <a:blip r:embed="rId1"/>
          <a:stretch/>
        </p:blipFill>
        <p:spPr>
          <a:xfrm>
            <a:off x="380880" y="3581280"/>
            <a:ext cx="4191120" cy="29307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8"/>
          <p:cNvSpPr/>
          <p:nvPr/>
        </p:nvSpPr>
        <p:spPr>
          <a:xfrm>
            <a:off x="81000" y="46080"/>
            <a:ext cx="1647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11" descr="indian peafowl 2"/>
          <p:cNvPicPr/>
          <p:nvPr/>
        </p:nvPicPr>
        <p:blipFill>
          <a:blip r:embed="rId2"/>
          <a:stretch/>
        </p:blipFill>
        <p:spPr>
          <a:xfrm>
            <a:off x="4800600" y="3581280"/>
            <a:ext cx="3962520" cy="296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gal Tig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gal Tigers are also know as Indian Ti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 8-10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igh 240-500l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gal Tigers are an endangered spec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ungry Bengal Tiger can eat as much as 60 pounds of m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Bengal Tiger 2"/>
          <p:cNvPicPr/>
          <p:nvPr/>
        </p:nvPicPr>
        <p:blipFill>
          <a:blip r:embed="rId1"/>
          <a:stretch/>
        </p:blipFill>
        <p:spPr>
          <a:xfrm>
            <a:off x="5105520" y="1447920"/>
            <a:ext cx="2895480" cy="23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bengal tiger 1"/>
          <p:cNvPicPr/>
          <p:nvPr/>
        </p:nvPicPr>
        <p:blipFill>
          <a:blip r:embed="rId2"/>
          <a:stretch/>
        </p:blipFill>
        <p:spPr>
          <a:xfrm>
            <a:off x="5943600" y="3581280"/>
            <a:ext cx="281160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w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’s most important animal is the c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people never ate cow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s were thought to be sac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used the cows to help plow fields, and to get milk to drink and make yogurt w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cow"/>
          <p:cNvPicPr/>
          <p:nvPr/>
        </p:nvPicPr>
        <p:blipFill>
          <a:blip r:embed="rId1"/>
          <a:stretch/>
        </p:blipFill>
        <p:spPr>
          <a:xfrm>
            <a:off x="4572000" y="2286000"/>
            <a:ext cx="4343400" cy="30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dian Rhinocero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Rhinoceroses live up to 40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igh about 4,400 lb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pite their size and weight they are nimble and can jump or change direction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rhino"/>
          <p:cNvPicPr/>
          <p:nvPr/>
        </p:nvPicPr>
        <p:blipFill>
          <a:blip r:embed="rId1"/>
          <a:stretch/>
        </p:blipFill>
        <p:spPr>
          <a:xfrm>
            <a:off x="5105520" y="1905120"/>
            <a:ext cx="2859120" cy="4038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indian_palm_squirrel9"/>
          <p:cNvPicPr/>
          <p:nvPr/>
        </p:nvPicPr>
        <p:blipFill>
          <a:blip r:embed="rId1"/>
          <a:stretch/>
        </p:blipFill>
        <p:spPr>
          <a:xfrm>
            <a:off x="685800" y="4038480"/>
            <a:ext cx="3048120" cy="240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Indian Palm Squirrel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7" descr="indian palm squirrel"/>
          <p:cNvPicPr/>
          <p:nvPr/>
        </p:nvPicPr>
        <p:blipFill>
          <a:blip r:embed="rId2"/>
          <a:stretch/>
        </p:blipFill>
        <p:spPr>
          <a:xfrm>
            <a:off x="2651040" y="2286000"/>
            <a:ext cx="1884600" cy="2514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palm squirrels are only found naturally in parts of India and Sri Lan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 2-4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don’t hiberna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palm squirrels only grow to be about 15-20 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indian palm squirrel 2"/>
          <p:cNvPicPr/>
          <p:nvPr/>
        </p:nvPicPr>
        <p:blipFill>
          <a:blip r:embed="rId3"/>
          <a:stretch/>
        </p:blipFill>
        <p:spPr>
          <a:xfrm>
            <a:off x="457200" y="1295280"/>
            <a:ext cx="274320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opa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have broad paws and short 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rican leopards in hilly areas tend to be larger than those in lowla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opards are agile cli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 21-23 years in captivity and only 7-9 in the w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3" descr="leopard-sleeping-in-tree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152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Q1km41DLJ4EM3Oq8HFM2-HkbtosstohsLEPSMrr4lDkWTISI5hS5bCyRI"/>
          <p:cNvPicPr/>
          <p:nvPr/>
        </p:nvPicPr>
        <p:blipFill>
          <a:blip r:embed="rId2"/>
          <a:stretch/>
        </p:blipFill>
        <p:spPr>
          <a:xfrm>
            <a:off x="6095880" y="1295280"/>
            <a:ext cx="2049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gger Crocodi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fically know as Crocodylus palustr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male Mugger Crocodiles can lay as many as 25-30 eg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urvive on fish, other reptiles, and large and small mamm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indian-mugger"/>
          <p:cNvPicPr/>
          <p:nvPr/>
        </p:nvPicPr>
        <p:blipFill>
          <a:blip r:embed="rId1"/>
          <a:stretch/>
        </p:blipFill>
        <p:spPr>
          <a:xfrm>
            <a:off x="380880" y="1981080"/>
            <a:ext cx="4267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yth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of the most massively built snakes in Ind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weight varies from 70-129 lb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eating a huge meal Pythons can go days without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ound 4m l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python 2"/>
          <p:cNvPicPr/>
          <p:nvPr/>
        </p:nvPicPr>
        <p:blipFill>
          <a:blip r:embed="rId1"/>
          <a:stretch/>
        </p:blipFill>
        <p:spPr>
          <a:xfrm>
            <a:off x="5029200" y="137160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python"/>
          <p:cNvPicPr/>
          <p:nvPr/>
        </p:nvPicPr>
        <p:blipFill>
          <a:blip r:embed="rId2"/>
          <a:stretch/>
        </p:blipFill>
        <p:spPr>
          <a:xfrm>
            <a:off x="4495680" y="3738600"/>
            <a:ext cx="3953160" cy="2589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21:44:46Z</dcterms:created>
  <dc:creator> </dc:creator>
  <dc:description/>
  <dc:language>en-US</dc:language>
  <cp:lastModifiedBy>JSEAQUIS</cp:lastModifiedBy>
  <dcterms:modified xsi:type="dcterms:W3CDTF">2011-05-23T14:08:53Z</dcterms:modified>
  <cp:revision>4</cp:revision>
  <dc:subject/>
  <dc:title>Animals of  Asia</dc:title>
</cp:coreProperties>
</file>